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0116800" cy="15544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081-D8EF-44E5-9292-E31FC78C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E85-6F80-41E4-A99A-30ECC844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98C-AD76-4DA1-B96E-2E918226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2764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2483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065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712764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32483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E58-629A-4326-A757-7BF51FA6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4EEB-2CAF-43C7-AFDD-5B88B351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5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85E2-296D-4567-ADA6-1D884DB9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FDC-A056-4FBB-8F73-3106BA0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286-BBD1-4D97-B082-7F1D6242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7DE5-3907-4DBE-B6CF-4BB6003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06560" y="630360"/>
            <a:ext cx="18103680" cy="119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6071-9E67-41A7-8739-42C0F15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2FF4-212E-4B70-9D81-A3A917C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5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235-C4F8-4B84-9714-C78210B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AF50-6ACB-4515-ACAC-DB61482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2907-D921-48FB-899F-A45A5C76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6D0-C928-4005-A75E-83728355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DAD2-3DED-4935-8750-514C1072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12764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2483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065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712764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32483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6A91-934C-4430-95A8-6229C20B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C6C-0B54-46BB-928C-71F81E56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245-7A9D-4839-AE4E-3B8AB3E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16E-D53B-4F6F-BB0E-696ABBB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560" y="630360"/>
            <a:ext cx="18103680" cy="119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4AB-3FD7-4EBE-BFE0-2EA1174C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EF1-1F9E-4FC8-87CA-CD8DA56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393-C810-47CC-9964-82EFBBF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805-CDE6-448F-8AE8-BB3ECE1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9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marL="763560" indent="-763560">
              <a:spcBef>
                <a:spcPts val="1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1" marL="1492200" indent="-723960">
              <a:spcBef>
                <a:spcPts val="1675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-781200">
              <a:spcBef>
                <a:spcPts val="1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3" marL="2986200" indent="-704880">
              <a:spcBef>
                <a:spcPts val="1675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4" marL="3746520" indent="-757080">
              <a:spcBef>
                <a:spcPts val="1675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5" marL="3746520" indent="-757080">
              <a:spcBef>
                <a:spcPts val="167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6" marL="3746520" indent="-757080">
              <a:spcBef>
                <a:spcPts val="167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0620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3840" y="1416348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1728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fld id="{CBA8C6F9-3854-4E20-9CDE-EC0153B4757F}" type="slidenum">
              <a:rPr b="0" lang="en-US" sz="27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517680"/>
            <a:ext cx="18105480" cy="1382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6560" y="13990680"/>
            <a:ext cx="181036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10960" y="3454200"/>
            <a:ext cx="16772040" cy="397188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111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111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0620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873840" y="14152320"/>
            <a:ext cx="636912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1441728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fld id="{5E9AFEED-0D35-4BEB-94C2-3E9B2BAF0CEC}" type="slidenum">
              <a:rPr b="0" lang="en-US" sz="27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2763720"/>
            <a:ext cx="17434080" cy="2071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9240" y="8982000"/>
            <a:ext cx="143254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6560" y="388440"/>
            <a:ext cx="18103680" cy="258300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Garamond"/>
              </a:rPr>
              <a:t>ED Relations with the rest of the Hospital</a:t>
            </a:r>
            <a:r>
              <a:rPr b="1" lang="en-US" sz="83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8300"/>
            </a:b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HS 8803: ED of the Future</a:t>
            </a: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Group 5 – Caroline Castellino, Sarah Hilton, Hyorim Park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97552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 fontScale="94000"/>
          </a:bodyPr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 u="sng">
                <a:solidFill>
                  <a:srgbClr val="003399"/>
                </a:solidFill>
                <a:uFillTx/>
                <a:latin typeface="Garamond"/>
              </a:rPr>
              <a:t>Problem Defini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Patient flow between the ED and other ancillary units (ex. Radiology/Labs/ Inpatient units) and being discharged is not always a smooth, integrated process. This may involve lack of communication, wasteful processes, and lack of needed resources, and leads to extended patient wait times and poor patient throughp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 u="sng">
                <a:solidFill>
                  <a:srgbClr val="003399"/>
                </a:solidFill>
                <a:uFillTx/>
                <a:latin typeface="Garamond"/>
              </a:rPr>
              <a:t>Measurable Metric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Turn around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Length of st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Physical distance from ED rooms to other parts of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ED bed to initial contact with ED physic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Lab/Radiology order placed to results/report received in 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5760" y="3657600"/>
            <a:ext cx="9677160" cy="1026936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 fontScale="93000"/>
          </a:bodyPr>
          <a:p>
            <a:pPr marL="709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 u="sng">
                <a:solidFill>
                  <a:srgbClr val="003399"/>
                </a:solidFill>
                <a:uFillTx/>
                <a:latin typeface="Garamond"/>
              </a:rPr>
              <a:t>Resourc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-662760">
              <a:lnSpc>
                <a:spcPct val="85000"/>
              </a:lnSpc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alysis of patient flow in the emergency department and the effect of an extensive re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0">
              <a:lnSpc>
                <a:spcPct val="85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Miró Ó, Sánchez, M, Espinosa G, </a:t>
            </a:r>
            <a:r>
              <a:rPr b="0" i="1" lang="en-US" sz="2000" spc="-1" strike="noStrike">
                <a:solidFill>
                  <a:srgbClr val="003399"/>
                </a:solidFill>
                <a:latin typeface="Garamond"/>
              </a:rPr>
              <a:t>et al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. </a:t>
            </a:r>
            <a:r>
              <a:rPr b="0" i="1" lang="en-US" sz="2000" spc="-1" strike="noStrike">
                <a:solidFill>
                  <a:srgbClr val="003399"/>
                </a:solidFill>
                <a:latin typeface="Garamond"/>
              </a:rPr>
              <a:t>Emerg Med J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2003;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20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:143–8.</a:t>
            </a:r>
            <a:r>
              <a:rPr b="0" lang="en-US" sz="3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2161440" indent="-726480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ED overcrowding and effectiveness are determined by internal factors and external pressures. Measuring patient flow can help to detect what these factors are, and to determine how to reorganize the 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1614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-662760">
              <a:lnSpc>
                <a:spcPct val="85000"/>
              </a:lnSpc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Effect of coupling between emergency department and inpatient unit on the overcrowding in emergency department.</a:t>
            </a:r>
            <a:r>
              <a:rPr b="1" lang="en-US" sz="3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0">
              <a:lnSpc>
                <a:spcPct val="85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Kolb, E. M., Lee, T., and Peck, J. 2007. In </a:t>
            </a:r>
            <a:r>
              <a:rPr b="0" i="1" lang="en-US" sz="2000" spc="-1" strike="noStrike">
                <a:solidFill>
                  <a:srgbClr val="003399"/>
                </a:solidFill>
                <a:latin typeface="Garamond"/>
              </a:rPr>
              <a:t>Proceedings of the 39th Conference on Winter Simulation: 40 Years! the Best Is Yet To Come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(Washington D.C., December 09 - 12, 2007). Winter Simulation Conference. IEEE Press, Piscataway, NJ, 1586-1593.</a:t>
            </a: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161440" indent="-726480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When trying to improve ED operations, one must also look at how the Inpatient Units are being utilized. Focusing on these may have the greater impac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09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6:32:31Z</dcterms:created>
  <dc:creator>cc3289</dc:creator>
  <dc:description/>
  <dc:language>en-US</dc:language>
  <cp:lastModifiedBy>Caroline Castellino</cp:lastModifiedBy>
  <dcterms:modified xsi:type="dcterms:W3CDTF">2008-09-23T12:32:04Z</dcterms:modified>
  <cp:revision>19</cp:revision>
  <dc:subject/>
  <dc:title>Issue Title  HS 8803: Group 5</dc:title>
</cp:coreProperties>
</file>